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8587-0856-4EBA-9BA5-C2D23012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277B-00A6-4A95-8FBD-CB6149C9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58F1-A41F-43F3-8546-5FF4CFBA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B1CC-DA76-4217-9C5B-A3C6611C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C62B-7797-46F6-8F99-EE76D4E8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E07A-BE05-474F-A224-94A8F3A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7B27-D82C-4E78-9397-D598CC56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1D47-4B35-4E5C-AF62-9EED7C0F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B403-F4CF-4C3F-8FD2-FBF1408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948E-0C88-4FB1-8794-FB29F5FD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B46C-9F79-49C6-A590-1C30C3B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6320-A7C4-4AE6-BFDC-D6873DD2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6D2D-F815-40B4-959D-8CF1854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7D2-66B4-479D-B56E-49F1751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8F4D-EC73-4E62-9CFC-84FD027A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D448-EF99-4909-9244-B1CD0FA7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7DFD-A263-4218-9EA9-1BDA3E17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EAA3-A4F1-4F24-A313-A8C35672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8A03-CD78-4F3F-9BE5-667C6098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292F-301E-435F-BDC6-6D9FB519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1EC7-54E8-41B0-BE49-452FA53C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6C1A-8B57-49D8-9479-45CDDB8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7049-81D8-4671-8BED-BB5BE97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1EDB-52AE-4D30-8786-EE97ADF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A329-D16B-4936-9B8A-1869E371DBB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7418-9C82-49ED-869D-CF736DB7B85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359720"/>
            <a:ext cx="1127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ето Слово на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сила и живо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теха носи то, аз зн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светъл, скъп имо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05600" y="2226600"/>
            <a:ext cx="7692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никва всякъд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ежда всява вред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оз тъмен свят то ще дад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 и мир, и ред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884160" y="1777680"/>
            <a:ext cx="74642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пъжда всеки страх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ашите душ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пазва ни от всеки грях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лото то руш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23560" y="1777680"/>
            <a:ext cx="698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нася плодов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ратство, мир, любов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й-тържествено зов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Божия покр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11:45Z</dcterms:modified>
  <cp:revision>11</cp:revision>
  <dc:subject/>
  <dc:title>Slide 1</dc:title>
</cp:coreProperties>
</file>